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B21-BA37-46B0-8D63-72BD21CC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E6B5-2605-4874-9A0A-138CEBEC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CF84-5B97-4DAA-95FA-338E7C04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177-8303-48E1-84B8-F877FA2D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8442-97D7-4405-8B6B-6588451C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680C-2284-495E-BD0F-E6A57ED1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069B-909A-4F05-A26A-36CD8EF4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64A9-6F13-46AB-B0D8-35B38A5D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D256-773E-4255-A34E-35754FC5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D986-87EE-4549-B539-2DC4AC73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D6A2-B0BA-4C9E-8B2B-AA66433A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BF4-1A03-4A48-AED4-C6B8808C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9517-D5C8-4AAA-8AAC-49D8C9DD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499F-6D40-43E0-8F68-A0AA30FA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3741-2A57-4811-A20B-0800AE78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04A4-02D2-47B3-A442-E09827C8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2862-3784-4B4E-BAD2-BD529B9A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76E06-A923-4452-85E1-4B0E3B51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B3C50-D596-4595-829A-12E0E531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F8DD3-33AA-4971-93C9-6F54328A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F1323-C425-42D6-9CF1-512234E4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5457D-68E8-4210-BDFF-77748EA9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A72-B913-4220-8BF7-BE3158FB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E5085-8F3E-4843-8E4A-0041C5C6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4F5AA-08F0-44D6-B745-64E9C92F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96BB1-4EF9-4B27-BD6C-0715E295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D88C7-C56E-402E-9C36-14651C8A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C6CB7-CB8D-4CE5-BF93-0AB5B7A0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4D3EA-D85B-4CBD-8861-0B8132FF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8AE48-4047-47D9-9570-DB4FE2F9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A57D6-24DD-4757-A8C7-8633AA6F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22B85-B433-49AE-9419-66758706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8F5A6-37BE-4FB7-8D47-3E5D9A12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094-6532-44B1-A988-9018A270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1FAE4-B1F6-4DE5-BA9B-A4681DCB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DFAA3-7A59-44A7-84E9-03E5C00F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E92D4-076C-4657-9093-96296516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E988E-0BBD-41F6-B5FA-18AD1954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93FAC-FF6D-401F-943E-03E19DF1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4CF7C-564C-4415-AB6E-AAC30B5D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E0872-02B5-4C79-BB42-6B628536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38DDE-729C-4978-9FBC-86F29CCD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67F37-E8E6-44F6-9FC6-39AE1000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16553-0286-4A94-A628-EE67FC72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24D-AA16-47D7-B10E-1064121C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F82B7-8903-45FF-8F54-C5367C5A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D81F5-FD50-48DB-A7DD-0EE2F911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83952-41E1-40B7-B3D8-14AD8CCD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213BF-3409-471B-B1E8-3ED18350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355B6-BBC4-4EAB-AAD9-5696CFD6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7091F-8B25-4CA0-94C1-29E3E09A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688C6-237E-4794-948D-FFB692B4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BB508-D739-4C5D-BD94-2BE25E41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DCCA5-3BA2-47CD-B516-9BE5B14E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CEB4E-3310-4981-B35B-0C2AF436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5AB-DD97-42DE-8D75-9372918C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F5856-6F26-42EF-B215-BEF1984A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EF7A0-38A5-4815-9611-843D78A5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F1550-6A9F-4454-BE27-FCD185D3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47E72-59B9-473A-ADD9-B4729B6D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2FC7F-AAD5-4BBC-88F4-F61F468F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61AD0-2A23-42F2-A4CC-8FE2B4B3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A3827-EBE9-4742-ADD9-1E09E7E0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F0EBB-82FF-4BFC-B01D-69CBABC2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C8EC4-3767-4A04-ADD0-61A5FFA6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C9778-BEA8-4BAB-AAD1-3CC1BCBF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44C-43D0-44E7-A684-3415DD79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65C83-BEB7-47A5-93E2-B3D1FD90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98812-2D06-4B57-A968-F04D8F58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FBAA6-806F-41E4-914A-3DB30E57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5E42B-D45B-4B9C-A115-366E8BC4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F5604-42FA-45D0-B24F-7EB2DDFC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53D75-D561-4DC8-999B-2A0B8841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EA881-BCCE-4DAA-BF37-D96F539F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6BE43-A1F3-4642-ABA6-5565FE61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FD9C7-8B4E-4594-9289-7E51E08F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74D2F-6D07-4A67-9C9F-6DCB798C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5EE-8385-43A0-A37A-2527021D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D7C85-0F98-4369-993F-E77D3467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CE352-AECF-477C-9EF6-522ACFB1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7AFD0-EF9F-472E-9772-F7A6FABB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74E81-E9C7-4FB0-AA51-D1633F16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FC8F9-CE93-4998-BCA8-F975EBDE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3367F-605A-4C39-8D97-9D240A5D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950EE-865A-4880-822C-D204A889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FE3E3-C4D6-4866-BF93-747FF8DC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60F97-2A7C-4632-984B-0FE42C9E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7C788-32A5-4589-B208-C166E819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76BB-9FE9-4647-8532-99D5EEBF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0BD55-F125-4C09-86CB-821FBEE8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BE6BB-DDA8-45E1-8DDE-A2E9383D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3A56A-DDC4-42B9-9242-34314F44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FAB8E-0981-4FBA-9C98-4BCDF7A0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D25BF-14C6-460A-990D-677DFD9F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7CF30-8D36-43DF-8F36-066092A4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79F75-A602-4111-825A-87367EBE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29EF-B4DC-4D84-993C-118B018ED6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02B8-5AE5-40E1-96FF-A14F4B48AC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965C-7B6A-4EB1-8CC4-3F25E65A4D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DAE2-A21C-4E4A-AB86-CEF14425EF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78B6-6543-40EC-9FAA-EDDD1B0500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C92E-E35B-44CC-B0DE-7B4404B7DB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2142-F445-4DC9-930F-BB2B222E79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216F-F3FF-4DF5-99E8-61A5D5C82C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512640"/>
            <a:ext cx="8053560" cy="15541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xpertise-Oriented Appro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&amp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nsumer-Oriented Appro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Conflict of intere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Regional seen as formative and too light hand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US Dept. summative and outcomes ba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. Confidentiality in Self-Re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. Transparency in Final Re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6. Competition from other sources (popular ratings -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U.S. News and World Repor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cific to Edu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C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www.ncate.org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A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teac.org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at current issue in PA is related to this type of Ad Hoc Panel Review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ow will it impact you as a future educational leade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ttp://www.corestandards.org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ttp://www.corestandards.org/articles/9-nga-and-ccsso-comment-on-ccssi-governance-sugges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195120" y="146160"/>
            <a:ext cx="849816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at are the arguments for and against using professional judgment as the means for evaluating programs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at are the different types of expertise-oriented approaches?  How are they alike and how do they diffe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y is accreditation of institutions of higher education controversial today?  How do these controversies reflect the controversies that frequently arise in many evaluations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195120" y="176040"/>
            <a:ext cx="849816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nition: Establish the value, merit or worth, of a product, program or poli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pplication of the system:  The evaluator is a person with expertise in judging things, but not with the particular content expertise-oriented or connoisseur evalua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riv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veloped checklists (p. 146 – 147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rk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formance” (multiple typ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t-Effective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ended Sup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W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ies.ed.gov/ncee/wwc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r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buros.unl.edu/buros/jsp/search.js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. How is the consumer-oriented evaluation approach like the expertise-oriented approach?  How is it differen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.  How do these approaches influence the practice of evaluation today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95120" y="208080"/>
            <a:ext cx="84981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nition: Direct reliance on professional expertise as the primary evaluation strateg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ributors: Flexner &amp; Eisn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torical Foundations: Began in the late 1800s (schools, universities and hospitals) “Accreditation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ot a member of the profession he presumed to jud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rgued common sense was the most relevant form of expertis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e was a layman in terms of education, but he was an educator, and his judgments were directed at medical education rather than the practice of medicin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(what implications does this have for you as an aspiring administrator?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79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noisseurship and Criticis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id Eisner use as an analogy for connoisseurship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rt of appreciation – not necessarily a liking or a preference for that which is observ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recognize differences that are subtle but significant in a particular qualitative display” (p. 140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iticism – is the public side of connoisseurship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ducational connoisseurship: “… process and effect of education.  In an age of high-stakes testing, it is a perspective we badly need” (p. 141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225360" y="195120"/>
            <a:ext cx="84679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s of Accreditation “Middle States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www.msche.org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 institutions of higher education seek accreditati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is the process for accreditation organized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has it impacted the Ed Admin program at Wilkes University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5144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 improve programs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(formative or summativ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14440" indent="-5144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14440" indent="-5144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14440" indent="-5144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. Provides consumers and stakeholders with an indication of quality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(formative or summative?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14440" indent="-5144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14440" indent="-5144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3. Ensures the government and those providing financial assistance that the programs are worthwhile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(formative or summative?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lf-study  (confidential, why?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ort Review by exper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sits with interviews (all stakeholders) and records review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mmendations for improvement or approv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182520"/>
            <a:ext cx="849816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istenc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urriculu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signments/Assess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ubric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inual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ection of Assessments (see syllabu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em Analys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00:25:45Z</dcterms:created>
  <dc:creator>rschultz</dc:creator>
  <dc:description/>
  <dc:language>en-US</dc:language>
  <cp:lastModifiedBy>rschultz</cp:lastModifiedBy>
  <dcterms:modified xsi:type="dcterms:W3CDTF">2011-02-05T18:54:09Z</dcterms:modified>
  <cp:revision>10</cp:revision>
  <dc:subject/>
  <dc:title>Chapter 5</dc:title>
</cp:coreProperties>
</file>